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227-1813-4EED-9462-CADB1DF1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0F5-D50C-4C19-B0AC-D9ECEC2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CBA-946A-490D-A93D-C8E88845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73C-FB63-41E4-ADD3-CA4A5BA6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DC7-6556-4308-986D-E77CA828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B23-810F-484D-9FA0-3934607D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993-EE64-4A30-97BC-9DB36C46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11D-84AE-458C-B74D-AAF0915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107-8D8F-4A36-9A9F-950850E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939-F31E-4074-86E9-EF62F4F5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549-4E03-4AB7-B5B2-4684AFE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7AA-2DA9-49FC-9D95-3360E5B5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8E0A-11E9-4DBF-8676-D479A5C78E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381880" cy="116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Gyurme Dahd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visors: Gerald Weber and Christof Lutter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iagram 6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yout engine with a solid mathematical found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outs are specified by linear constraints and a linear objective 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al layouts are calculated using linear program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stops,ie vertical and horizontal boundaries  are used to position a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creation and editing of GUIs using the ALM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editing modes fo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s of Areas can be removed or 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Areas can be cr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can be shifted to different rows/columns if they are pre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ies can be edited, e.g. preferred width, h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click menus all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al of an area’s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litting of an area vertically or horizont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d contents are available to be placed in new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abs are displa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edit constraints currently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nd remove tabs from constraints via a right click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 tabs to change constraints and sha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one or two tab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adjusts when dragging t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one tab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reflects the position of the t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two tabs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reflects the difference between the two ta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can be grouped in R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can be dragged and dropped between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can be split into two or removed via right click me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Row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 can be inserted in between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 can be split into two or removed via right click me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38:49Z</dcterms:created>
  <dc:creator>Gyurme</dc:creator>
  <dc:description/>
  <dc:language>en-US</dc:language>
  <cp:lastModifiedBy>clut002</cp:lastModifiedBy>
  <dcterms:modified xsi:type="dcterms:W3CDTF">2008-02-27T23:02:41Z</dcterms:modified>
  <cp:revision>14</cp:revision>
  <dc:subject/>
  <dc:title>ALM</dc:title>
</cp:coreProperties>
</file>